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62464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3263760" y="509400"/>
            <a:ext cx="3399120" cy="25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82B5-17ED-4884-A64F-EFE0D901D024}" type="slidenum"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EAED-7182-4A1C-BB51-D45DB39A8D14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817C-9C12-4C63-9219-A1FCCD3E6285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4139-4EB1-4D56-A8B6-CAA4B0F3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C94-2362-4DE4-AC88-D27ED6BF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B95-C41B-42DD-A62E-D2557E67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E6C-21AF-48B2-A0E1-48B4BCA9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8F7F-0C69-4AE4-820B-30D7A062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10FE-CE9D-4BDE-900A-25136A44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5ECA-9C97-407E-8361-891A2AD4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CF1D-54A1-4E05-BB64-B6F78832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738C-022B-4142-9794-9BF9BF00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51F7-C0DC-489B-8041-CCB317CD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F56F-61DC-4D8F-9C0A-74CC2AD4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E441-F681-4A17-8601-CE7FEE15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F01E-2AFB-435A-9E65-F1ACF6BB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BCEC-A341-4D2B-A5D6-9807310F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30EF-6C04-4B7E-B177-585064E2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469C-9C19-4FEC-9CCC-61FFE880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15FC-C3F7-434A-A27D-3482059D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BB1EE-47C6-4682-A475-ECD1197B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95136-8B11-4437-B9A1-4B792999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AE4B6-0368-44B4-BDA9-3172B564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68426-7241-4A06-87A3-AD616853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4EE78-1869-41B0-B3A1-469764F7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5C6-1399-4F00-8D65-BB1AFAE4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1D520-EF0B-44FC-B528-308742A9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B67D5-D032-4B04-99BA-61122618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5CCFA-92D9-4D2C-A672-1BD01677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8D8DB-8D9B-4CFB-A102-7F96255D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F99F9-37EC-43D4-8131-FA1B369A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E0FD8-5F73-45A6-A530-96FFE5D8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7E98B-5F24-480B-A78C-76373453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F3B8A-43A2-4599-8189-50BD5752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6519D-ED78-4B48-91C6-200A4260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B0E90-CE89-4842-905A-CAB99B13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5DD6-11C4-41F9-8726-B0E743C4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CFF89-CB1E-480D-9E9D-CBCD1358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869D0-E35E-4AE3-9ED9-6F878A92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12BA4-CDC6-4304-ACC1-A63E4572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769AB-4A19-4B6C-9E1F-67E8D038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DCFB7-AEF4-48B2-BD12-B7D27DD8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0E095-3B43-42D6-946F-445621AE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2A91D-DF0A-4AB3-9FD2-8D65ECDF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6042E-7140-4E90-92AA-233A582A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A39C3-A828-4B4A-9CC0-DAE80EE0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6D3B-24EF-41EF-A289-7700FE8D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E19E-0F43-4C8B-839B-686892AF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F635-B0B1-4467-9BF8-37ED083D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5F98-60CF-4592-8B43-496A0C2C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D92F-5A3B-4480-8393-4EBA6F3F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3988-A9AE-4C78-8EB5-9F14BDF7ADCF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B238-DC62-4C50-BA94-A5342817FF15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B146-D4E9-4EB3-91C9-C43B0FD94208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51C4-4926-428D-9E3A-FB028F2D3A0B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B2C0-30D8-4C6B-B55E-943A44EDE64A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7479-208A-4A41-B3D6-CBE4441AC265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A1A2-3033-433A-ACC3-090AF705E29A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563F-525F-44AC-8570-22A9C7C3DA47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176480"/>
            <a:ext cx="26431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4617b"/>
                </a:solidFill>
                <a:latin typeface="Century Gothic"/>
              </a:rPr>
              <a:t>BEAUFORT WES MUNISIPALITEIT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KONSEP BEGRO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2021/2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09E8-7914-4086-AB8F-CCFFD1A1509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der algemene uitgawes behels die volgend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232A-5F17-4A41-A239-E1FAE14DB656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tarief verhogings word voorgestel vir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Belasting                                 - 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Water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ullis                                        - 9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iool  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Elektrisiteit                               - 17.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verse tariewe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A72F-1143-4DE6-98E5-F1D47D7A323C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Groot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681 000 (R 70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3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B706-A98E-4E6E-9FA1-AB46693C4058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7745-9EE7-48FE-842C-AF85E7D186D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Medium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431 000 (R 45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6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5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6ED5-DEA0-4FDD-9378-CCE93027E3B6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7A8A-D250-4EDD-A132-58674E15C53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457200" y="2468520"/>
            <a:ext cx="8229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Klein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11 600 (R 30 6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200 eenhe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D116-2FB4-4334-8E89-47474AEEFAD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421C-D129-4221-BAB0-87315F8D21DA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457200" y="2847960"/>
            <a:ext cx="82296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`n Bedrag van R 41.07 miljoen word toegewys aan die verskaffing van gratis dienste in terme van die Raad se Deernis Belei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aan huishoudings met ‘n inkomste vanaf R0,00 tot R1,890 beloop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50 kWh Elektrisiteit,   6 kl water per maand en 10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aan huishoudings met ‘n inkomste vanaf R1,891 tot R3,780 beloop 50 kWh Elektrisiteit,   6 kl water per maand en 7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402B-90E3-4EA1-BAC3-0AADFE51EE78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D9DA-3168-48E1-A07C-AC5DFEAB4EC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INLEIDING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Voorgestelde Bedryfs en Kapitaal begrotings was voorberei inaggenome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munisipaliteit se GOP (IDP)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Nasionale Tesourie se voorskrifte;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Nasionale, Provinsiale en Plaaslike Ekonomiese omstandighede waaraan ons munisipaliteit blootgestel is; e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Plaaslike Ekonomiese Ontwikkel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F3ED-E075-422C-8483-D08DFBC6000C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D972-DED6-42F7-9C4E-CFA7B21120B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06BA-F56F-4C1F-AE0A-EF469E108568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1547640" y="3219480"/>
            <a:ext cx="626436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entury Gothic"/>
              </a:rPr>
              <a:t>Korting toegestaan aan Pensionariss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FAFE-F59E-40E1-8D34-A8F45D1AA28C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176480"/>
            <a:ext cx="246240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Thank</a:t>
            </a: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 You</a:t>
            </a: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Baie Danki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entury Gothic"/>
              </a:rPr>
              <a:t>enKos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1FAE-06D3-4DEF-BD69-408BD7E18BBE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s was gemaak met die opstel van die begro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beraamde VPI deur Nasionale Tesourie van 4.1% vir die 2021/22 finansiële jaar en 4.4%; 4.5% vir die daaropvolgende twee ja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Salaris aanpassing vir 2021/22 is gebasseer op TASK skale plus 4.0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erhoging in koste van grootmaat elektrisiteit aankope is 17.8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oorsiening vir oninbare skulde beloop 6.8% van alle dienste en belasting heffing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05E9-F5A0-4A21-96FF-F517642338C6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Alhoewel die verwagte inflasie koers soos geprojekteer deur Nasionale Tesourie 4.1% gaan beloop vir 2021/22 sal die bedryfs uitgawes met ‘n hoër persentasie styg weens die groei in inset kos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B817-48FD-4E3A-BE36-E9C0316A431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`n Kapitaal Begroting van R 23,465 miljoen word voorgestel vir 2021/22 (R 27,245miljoen &amp;  R22,523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kapitaalbegroting word as volg gefinansie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954D-EB09-4902-9846-B5123FB80605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7859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is `n opsomming van die groter kapitaal projekte wat onderneem sal word gedurende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D34D-1CAE-4ACA-8CF1-16FC9C7638E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463680" y="2692440"/>
            <a:ext cx="8140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000"/>
            <a:ext cx="82296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verwagte inkomste vir die 2021/22 finansiële jaar beloop R 357,070 miljoen (R 383,084 miljoen en             R 381,453 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hoof inkomste bronne 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1A7E-E375-43CC-9F78-BAD3BB4F313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81471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Ander eie inkomste behels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0BDD-4739-450D-818D-665FF7112281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684360" y="2543040"/>
            <a:ext cx="7416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geprojekteerde bedryfsuitgawe vir die 2021/22 finansiële jaar beloop R 354,392 miljoen (R 375,528 miljoen en R 375,528 miljoen vir die daaropvolgende twee jare). Die hoof uitgawe items is as vol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2607-8E29-44B7-BEBD-5124B594DA92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457200" y="3219480"/>
            <a:ext cx="82296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6:53:20Z</dcterms:created>
  <dc:creator>user29</dc:creator>
  <dc:description/>
  <dc:language>en-US</dc:language>
  <cp:lastModifiedBy>HP</cp:lastModifiedBy>
  <cp:lastPrinted>2021-05-04T10:44:47Z</cp:lastPrinted>
  <dcterms:modified xsi:type="dcterms:W3CDTF">2021-05-18T10:26:48Z</dcterms:modified>
  <cp:revision>232</cp:revision>
  <dc:subject/>
  <dc:title>BEAUFORT WEST MUNICIPALITY</dc:title>
</cp:coreProperties>
</file>