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14.wmf" ContentType="image/x-wmf"/>
  <Override PartName="/ppt/media/image6.png" ContentType="image/png"/>
  <Override PartName="/ppt/media/image2.png" ContentType="image/png"/>
  <Override PartName="/ppt/media/image4.jpeg" ContentType="image/jpeg"/>
  <Override PartName="/ppt/media/image10.wmf" ContentType="image/x-wmf"/>
  <Override PartName="/ppt/media/image7.wmf" ContentType="image/x-wmf"/>
  <Override PartName="/ppt/media/image1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5624640" y="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3263760" y="509400"/>
            <a:ext cx="3399120" cy="25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3465-E824-4CC7-9F46-9E726AE03DC3}" type="slidenum">
              <a:rPr b="0" lang="en-Z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77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3D99-6755-4DB8-8CFC-9B47CDDEB89E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77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15D6-78E5-494B-A4E7-8A1417F47399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AF36-F293-4E70-B580-F8008749B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5B15-CC20-41A9-ACC3-B1CF47DB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CA87-D644-491B-BF40-59A7C6D5A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7137-A0DF-49D1-BAA6-11A3C650B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9DF1-C877-42A5-A357-B159F6683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06D9-3729-4056-894E-A6A7D2DE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DE18-1511-4D51-A7D6-1D2DE2EB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6287-1B8F-44D2-A385-DD163488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4D4B-868A-4DB1-BFA4-EB572E76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6AD0-B766-442F-A753-B0156677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76EB-57E8-475C-8522-0DB00F4B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DE83-FCBA-4CDB-B30E-83B317A8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9545-4ADC-4D86-BB08-AD622A91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1D2F-8E2F-4EBB-A6C0-685D90FF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F720-E113-4E77-AED0-49E4F648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4EBBF-70C1-48C0-BE80-B48487AD3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413D-0E45-4662-B92E-017A57B45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DE110-2AAA-4B22-9F31-F67B778C7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18169-1ADA-497E-805D-F04505F1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C9329-3DB3-48E7-A938-A8F01564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AC6F0-07EB-434E-8D18-957FCD4A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B1765-7B2E-4EDD-A4CD-091DA63E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0ADE-47A7-4BC3-B1B4-F1F3EF62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BED1E-F3D9-4608-A46B-46EAFEDB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9A505-D737-4B74-94F0-FA68ECAC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82294-F576-4C8B-95F5-F6CA12D8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64BA4-4798-4764-ADDF-4BA4DE2A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2E950-BD6B-4FF2-BD7E-851F93D8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363C6-185B-48DB-8FC2-A4D18CFE8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7869E-6AF5-4C37-9539-24DA69C42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479C7-D523-47CE-821D-75E7476BE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EF353-B476-47EA-80F6-3C38C088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6D4BC-5C3A-473D-99B0-C305A988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AAD1-F716-4615-A2F3-D70BF3FB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9E81C-E6DD-40C9-BBD7-69E12C78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2124C-3CF4-4565-892C-89A31581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33BFE-604C-4BFB-9210-5F86BE5D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83BAE-4B05-4566-952D-C98AAB95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0D7A0-6012-4FD9-A3BB-B6FDD5CE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5460F-25AD-458C-B34C-C6F7D0B0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38D17-CD21-458E-B10A-7DEB8EBA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7A92C-517B-4F0B-A596-FC69C9A53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242CE-EE29-4AE8-9EEA-818AE2FAA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5FE9-1D52-4E6C-A17A-58032EF7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4152-D842-4BB0-A260-2E4BE2AA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355E-9187-4C35-911D-CE8CE7B7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BDB7-2E02-4763-B8DA-B53891FD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F746-A87A-472F-9BC5-AEB45736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A6BD-805D-4F6E-AB1A-F981FAA51E90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B346-82A2-478C-9ADA-765AC62D8321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0F7B-8583-46B7-9578-795DE2170B3D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727E-E387-45C1-B341-C0CEDDCF301B}" type="slidenum">
              <a:rPr b="0" lang="en-Z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E6FE-8314-4733-96A2-6566D5F450DD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C691-3327-4D2F-B1A0-A08D2DF206C6}" type="slidenum">
              <a:rPr b="0" lang="en-Z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1C5F-E7AA-42B5-B9FE-1783CFC1F2C3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9F12-5DF0-420D-8363-F792FAB53FB3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760" y="1176480"/>
            <a:ext cx="26431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04617b"/>
                </a:solidFill>
                <a:latin typeface="Century Gothic"/>
              </a:rPr>
              <a:t>BEAUFORT WES MUNISIPALITEIT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4080" rIns="45720" anchor="t">
            <a:norm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entury Gothic"/>
              </a:rPr>
              <a:t>KONSEP BEGROT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entury Gothic"/>
              </a:rPr>
              <a:t>2021/2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4" name="Object 4"/>
          <p:cNvGraphicFramePr/>
          <p:nvPr/>
        </p:nvGraphicFramePr>
        <p:xfrm>
          <a:off x="4932360" y="2241720"/>
          <a:ext cx="1724040" cy="184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241720"/>
                    <a:ext cx="1724040" cy="18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Slide Number Placeholder 4"/>
          <p:cNvSpPr/>
          <p:nvPr/>
        </p:nvSpPr>
        <p:spPr>
          <a:xfrm>
            <a:off x="807732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9038-B876-462F-B455-B3D3AAD71684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nder algemene uitgawes behels die volgend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0C3B-C35B-4C77-A275-BF6094A1FBA0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" descr=""/>
          <p:cNvPicPr/>
          <p:nvPr/>
        </p:nvPicPr>
        <p:blipFill>
          <a:blip r:embed="rId1"/>
          <a:stretch/>
        </p:blipFill>
        <p:spPr>
          <a:xfrm>
            <a:off x="457200" y="2421000"/>
            <a:ext cx="822960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tarief verhogings word voorgestel vir 2021/22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Belasting                                 - 5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Water                                      - 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Vullis                                        - 9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iool                                        - 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Elektrisiteit                               - 17.8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verse tariewe                      - 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2F8E-1197-4CB4-AA4A-FFD838FF4995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ns word gemaak vir ‘n Groot Huishoud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Waardasie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 681 000 (R 700 000 minus R 19 000 kort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elektrisiteit verbruik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1000 kW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water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30 kl per ma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67D6-1DFB-4E84-AE11-74A668403ADC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tarief verhogings het die volgende invloed op munisipale rekenin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1BE1-2E23-494C-A048-178438DACC19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457200" y="2421000"/>
            <a:ext cx="822960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ns word gemaak vir ‘n Medium Huishoud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Waardasie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 431 000 (R 450 000 minus R 19 000 kort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elektrisiteit verbruik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600 kW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water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15 kl per ma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38A9-1664-4C76-80A6-DD36B4D3E378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tarief verhogings het die volgende invloed op munisipale rekenin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7F76-93ED-48A3-A734-CD3B8C255560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" descr=""/>
          <p:cNvPicPr/>
          <p:nvPr/>
        </p:nvPicPr>
        <p:blipFill>
          <a:blip r:embed="rId1"/>
          <a:stretch/>
        </p:blipFill>
        <p:spPr>
          <a:xfrm>
            <a:off x="457200" y="2468520"/>
            <a:ext cx="82296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ns word gemaak vir ‘n Klein Huishoud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Waardasie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 11 600 (R 30 600 minus R 19 000 kort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elektrisiteit verbruik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200 eenhe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water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10 kl per ma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E72C-20E9-4940-BE92-AFEB296531C1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tarief verhogings het die volgende invloed op munisipale rekenin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2FAB-968A-4195-818B-AAD905CBC72D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" descr=""/>
          <p:cNvPicPr/>
          <p:nvPr/>
        </p:nvPicPr>
        <p:blipFill>
          <a:blip r:embed="rId1"/>
          <a:stretch/>
        </p:blipFill>
        <p:spPr>
          <a:xfrm>
            <a:off x="457200" y="2847960"/>
            <a:ext cx="82296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`n Bedrag van R 41.07 miljoen word toegewys aan die verskaffing van gratis dienste in terme van die Raad se Deernis Beleid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Die gratis basiese dienste </a:t>
            </a: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aan huishoudings met ‘n inkomste vanaf R0,00 tot R1,890 beloop</a:t>
            </a: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 50 kWh Elektrisiteit,   6 kl water per maand en 100% subsidie vir Riool en Vullis per maand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Die gratis basiese dienste aan huishoudings met ‘n inkomste vanaf R1,891 tot R3,780 beloop 50 kWh Elektrisiteit,   6 kl water per maand en 70% subsidie vir Riool en Vullis per maand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A36F-1926-428C-8017-A7806615BF4F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Deernissubsidie vanaf 01 Julie 202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3966-CC9C-4398-84D7-98C76B100B6C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" descr=""/>
          <p:cNvPicPr/>
          <p:nvPr/>
        </p:nvPicPr>
        <p:blipFill>
          <a:blip r:embed="rId1"/>
          <a:stretch/>
        </p:blipFill>
        <p:spPr>
          <a:xfrm>
            <a:off x="900000" y="2643120"/>
            <a:ext cx="7344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DRYFS- EN KAPITAAL BEGROTING 2021/22</a:t>
            </a:r>
            <a:br>
              <a:rPr sz="2800"/>
            </a:b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INLEIDING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2021/22 Voorgestelde Bedryfs en Kapitaal begrotings was voorberei inaggenome die volgend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Die munisipaliteit se GOP (IDP)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Nasionale Tesourie se voorskrifte;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Die Nasionale, Provinsiale en Plaaslike Ekonomiese omstandighede waaraan ons munisipaliteit blootgestel is; e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Plaaslike Ekonomiese Ontwikkel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BC4A-96AE-4F24-99EE-A55AB76C324E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Deernissubsidie vanaf 01 Julie 202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F750-EAA9-48CD-9958-508D6CC5EF1A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" descr=""/>
          <p:cNvPicPr/>
          <p:nvPr/>
        </p:nvPicPr>
        <p:blipFill>
          <a:blip r:embed="rId1"/>
          <a:stretch/>
        </p:blipFill>
        <p:spPr>
          <a:xfrm>
            <a:off x="900000" y="2643120"/>
            <a:ext cx="7344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entury Gothic"/>
              </a:rPr>
              <a:t>Deernissubsidie vanaf 01 Julie 202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27F4-B57B-43FE-A82C-CD7120C3B6E0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" descr=""/>
          <p:cNvPicPr/>
          <p:nvPr/>
        </p:nvPicPr>
        <p:blipFill>
          <a:blip r:embed="rId1"/>
          <a:stretch/>
        </p:blipFill>
        <p:spPr>
          <a:xfrm>
            <a:off x="1547640" y="3219480"/>
            <a:ext cx="6264360" cy="1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entury Gothic"/>
              </a:rPr>
              <a:t>Korting toegestaan aan Pensionariss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5F42-8915-4298-BB93-7896FFD39812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Content Placeholder 3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777708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1176480"/>
            <a:ext cx="246240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Thank</a:t>
            </a:r>
            <a:r>
              <a:rPr b="1" lang="en-ZA" sz="2800" spc="-1" strike="noStrike">
                <a:solidFill>
                  <a:srgbClr val="04617b"/>
                </a:solidFill>
                <a:latin typeface="Calibri"/>
              </a:rPr>
              <a:t> You</a:t>
            </a:r>
            <a:br>
              <a:rPr sz="2800"/>
            </a:b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alibri"/>
              </a:rPr>
              <a:t>Baie Danki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4080" rIns="45720" anchor="t">
            <a:norm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entury Gothic"/>
              </a:rPr>
              <a:t>enKosi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84" name="Object 2"/>
          <p:cNvGraphicFramePr/>
          <p:nvPr/>
        </p:nvGraphicFramePr>
        <p:xfrm>
          <a:off x="4932360" y="2241720"/>
          <a:ext cx="1724040" cy="184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241720"/>
                    <a:ext cx="1724040" cy="18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Slide Number Placeholder 4"/>
          <p:cNvSpPr/>
          <p:nvPr/>
        </p:nvSpPr>
        <p:spPr>
          <a:xfrm>
            <a:off x="807732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E3CC-C510-4460-829F-D229E50141B3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DRYFS- EN KAPITAAL BEGROTING 2021/22</a:t>
            </a:r>
            <a:br>
              <a:rPr sz="2800"/>
            </a:b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GROTINGS AANNAM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s was gemaak met die opstel van die begrot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beraamde VPI deur Nasionale Tesourie van 4.1% vir die 2021/22 finansiële jaar en 4.4%; 4.5% vir die daaropvolgende twee jar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Salaris aanpassing vir 2021/22 is gebasseer op TASK skale plus 4.0%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Verhoging in koste van grootmaat elektrisiteit aankope is 17.8%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Voorsiening vir oninbare skulde beloop 6.8% van alle dienste en belasting heffing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1C44-2E45-448B-90B6-B9E2AB838B4F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DRYFS- EN KAPITAAL BEGROTING 2021/22</a:t>
            </a:r>
            <a:br>
              <a:rPr sz="2800"/>
            </a:b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GROTINGS AANNAM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773360"/>
            <a:ext cx="8229600" cy="45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Alhoewel die verwagte inflasie koers soos geprojekteer deur Nasionale Tesourie 4.1% gaan beloop vir 2021/22 sal die bedryfs uitgawes met ‘n hoër persentasie styg weens die groei in inset kos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ADF5-CF5E-4BED-A0EF-B9BD45FD3D39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Kapitaal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`n Kapitaal Begroting van R 23,465 miljoen word voorgestel vir 2021/22 (R 27,245miljoen &amp;  R22,523 miljoen vir die daaropvolgende twee jare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2021/22 kapitaalbegroting word as volg gefinansier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206E-E235-4E8C-B3CD-840B476CED07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" descr=""/>
          <p:cNvPicPr/>
          <p:nvPr/>
        </p:nvPicPr>
        <p:blipFill>
          <a:blip r:embed="rId1"/>
          <a:stretch/>
        </p:blipFill>
        <p:spPr>
          <a:xfrm>
            <a:off x="826920" y="4076640"/>
            <a:ext cx="78598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Kapitaal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is `n opsomming van die groter kapitaal projekte wat onderneem sal word gedurende 2021/22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EF3C-47DC-408F-99AA-8440DA274471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" descr=""/>
          <p:cNvPicPr/>
          <p:nvPr/>
        </p:nvPicPr>
        <p:blipFill>
          <a:blip r:embed="rId1"/>
          <a:stretch/>
        </p:blipFill>
        <p:spPr>
          <a:xfrm>
            <a:off x="463680" y="2692440"/>
            <a:ext cx="81406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341000"/>
            <a:ext cx="822960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Die verwagte inkomste vir die 2021/22 finansiële jaar beloop R 357,070 miljoen (R 383,084 miljoen en             R 381,453  miljoen vir die daaropvolgende twee jare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hoof inkomste bronne i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8621-B7EE-49F2-ABE9-B672B6387E40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" descr=""/>
          <p:cNvPicPr/>
          <p:nvPr/>
        </p:nvPicPr>
        <p:blipFill>
          <a:blip r:embed="rId1"/>
          <a:stretch/>
        </p:blipFill>
        <p:spPr>
          <a:xfrm>
            <a:off x="539640" y="3141720"/>
            <a:ext cx="814716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Ander eie inkomste behels die volgend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9085-CF1F-43D5-9A5D-379AB3CE56A7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" descr=""/>
          <p:cNvPicPr/>
          <p:nvPr/>
        </p:nvPicPr>
        <p:blipFill>
          <a:blip r:embed="rId1"/>
          <a:stretch/>
        </p:blipFill>
        <p:spPr>
          <a:xfrm>
            <a:off x="684360" y="2543040"/>
            <a:ext cx="74167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geprojekteerde bedryfsuitgawe vir die 2021/22 finansiële jaar beloop R 354,392 miljoen (R 375,528 miljoen en R 375,528 miljoen vir die daaropvolgende twee jare). Die hoof uitgawe items is as vol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2CDC-D64F-4AF3-8012-9543840AECB7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" descr=""/>
          <p:cNvPicPr/>
          <p:nvPr/>
        </p:nvPicPr>
        <p:blipFill>
          <a:blip r:embed="rId1"/>
          <a:stretch/>
        </p:blipFill>
        <p:spPr>
          <a:xfrm>
            <a:off x="457200" y="3219480"/>
            <a:ext cx="822960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6:53:20Z</dcterms:created>
  <dc:creator>user29</dc:creator>
  <dc:description/>
  <dc:language>en-US</dc:language>
  <cp:lastModifiedBy>HP</cp:lastModifiedBy>
  <cp:lastPrinted>2021-05-04T10:44:47Z</cp:lastPrinted>
  <dcterms:modified xsi:type="dcterms:W3CDTF">2021-05-18T10:26:48Z</dcterms:modified>
  <cp:revision>232</cp:revision>
  <dc:subject/>
  <dc:title>BEAUFORT WEST MUNICIPALITY</dc:title>
</cp:coreProperties>
</file>