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4.jpeg" ContentType="image/jpeg"/>
  <Override PartName="/ppt/media/image10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562464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3263760" y="509400"/>
            <a:ext cx="3399120" cy="25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E350-348C-49FD-8C4D-C9BDA604C317}" type="slidenum">
              <a:rPr b="0" lang="en-Z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56A2A-0AB3-4A3D-A0B2-B952C1CCCFB4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EBA7-0054-40D1-987F-04E2D66FA862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572A-68BF-41BC-91A3-E46999DD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F1D9-188C-4E32-8DC8-9CD7D900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E3A3-18B9-4B1D-86D8-331595585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D3BD-9C04-4530-8F40-636AC9AE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9810-7A8E-4A83-8C20-AB68655A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E86E-F6C5-4A91-A48C-F4EFD7BE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C5D4-5B23-4ADA-826E-88D685F1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97F8C-EA96-4DBA-9D73-3CE474F5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0A33-D42B-4BFB-8E92-B5106121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CCB6A-444B-4461-BC72-25316CEF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DF2B1-94B2-474B-9059-CF26EAA8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1FE5-E02B-46BA-98C4-4DD0E5A4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0D67-51D2-4430-A618-02FF5F5B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1C80-DBA8-459A-9E9A-A11D7BB9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2448-6628-4D9E-8BE2-A31EC86B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36DC-C09A-4D0E-B81C-97CCB420C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325E-51FA-44E9-AA92-861E6507F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60C09-95C7-4484-8478-53EF6D45D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419D4-6285-41C2-90A7-FD229BC0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8C240-EEE1-47D9-A99B-F616101F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64444-C675-4474-BB1F-729C9ED9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D0C67-524A-429E-AFBE-8BB45551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C8A5-C8A7-4B27-B436-E0F62200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70E2C-3D1A-4765-84F4-6510C09B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691C2-BB44-467D-88AE-C784A71E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1FD35-5467-4164-AC2E-AC75D856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CE674-1850-4459-AB6F-2B9B4DEF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8A366-1A11-4EE7-81D3-790DF6E2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362B1-5DAE-4E47-B635-D64D81D0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4E010-A428-47DE-B2A5-62B2003B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1BEB8-4240-49CC-9115-F4534A9B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45A74-9312-4899-93E9-542BDEFB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370A1-4F00-4989-9DBF-3687C6A4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C7CC-9C97-4892-A780-56BAF106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D283D-6CBE-4746-8609-A7B5F790B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53CA8-F9E2-47A5-A5BF-1BDD6D54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06109-52D5-4810-B13B-0CBB2F1B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C41B1-967E-4212-928F-9B41B6AD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D8D21-C4DE-4DC5-B957-61C71A84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4363E-FCF4-454E-A8C9-D386A1619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E4151-B6DA-41A1-9474-D3102B5D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ACADD-ABBE-4708-A95E-E049BCC4B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ACEA5-DFF6-4364-B56D-5ABED473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4E87-5D64-4A4E-B125-1A9B4EED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C01F-2E70-46DA-A69C-CD09D04A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B179-086F-46B6-89D5-5678CB48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BAE8-A96A-4841-AD4E-B9186BBA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E1BF-9025-430C-A905-E53D5451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2203-4AC0-4B29-986E-C0224F3FEB23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86B6-7945-4523-B889-C4EC16CF16AD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BC83-CC63-4B5A-9290-0111647053B5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2CDA-609F-4B58-87BD-710DD42CEE4F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1257-67B0-418B-81E3-ED74EE032FE4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E1C9-77E4-4871-9C77-F725C8E25863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EAD7-CAE1-42CC-983F-686AD7E91A3B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2379-81AB-45CD-B55E-1CA5C7ED1E62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1176480"/>
            <a:ext cx="26431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04617b"/>
                </a:solidFill>
                <a:latin typeface="Century Gothic"/>
              </a:rPr>
              <a:t>BEAUFORT WES MUNISIPALITEIT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KONSEP BEGRO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2021/2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6E99-CA3E-4DAF-8B6C-68CFB47AE60F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der algemene uitgawes behels die volgend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F4A4B-3D3F-4FF8-92FC-AC0F3A14D439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tarief verhogings word voorgestel vir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Belasting                                 - 5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Water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ullis                                        - 9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iool  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Elektrisiteit                               - 17.8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verse tariewe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7E28-2F5D-41DB-857B-D91C248DC606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Groot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681 000 (R 70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3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69DA-912F-410E-8AC5-82E2DB2004D2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9C4A-83E3-44A4-8475-210A25A19EE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Medium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431 000 (R 45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6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5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1700-9270-4D55-9849-92F85F0544A6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734B-1A44-4406-9622-2C928CA0C012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457200" y="2468520"/>
            <a:ext cx="82296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Klein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11 600 (R 30 6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200 eenhe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67FE-C48D-4FCE-8EF1-035B0898F145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A442-68A6-4224-AA88-D1FB0D27F29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1"/>
          <a:stretch/>
        </p:blipFill>
        <p:spPr>
          <a:xfrm>
            <a:off x="457200" y="2847960"/>
            <a:ext cx="82296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`n Bedrag van R 41.07 miljoen word toegewys aan die verskaffing van gratis dienste in terme van die Raad se Deernis Beleid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aan huishoudings met ‘n inkomste vanaf R0,00 tot R1,890 beloop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50 kWh Elektrisiteit,   6 kl water per maand en 10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aan huishoudings met ‘n inkomste vanaf R1,891 tot R3,780 beloop 50 kWh Elektrisiteit,   6 kl water per maand en 7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F950-3992-49DD-9838-AA476716A406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2E8F-E857-49AB-9E24-E017F707B12C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INLEIDING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Voorgestelde Bedryfs en Kapitaal begrotings was voorberei inaggenome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munisipaliteit se GOP (IDP)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Nasionale Tesourie se voorskrifte;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Nasionale, Provinsiale en Plaaslike Ekonomiese omstandighede waaraan ons munisipaliteit blootgestel is; e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Plaaslike Ekonomiese Ontwikkel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CA5D-4B1A-45E8-9357-3AEB627EBD7E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9ED96-E5D9-4F86-BC46-5535C565F4EB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D501-1C36-4402-995B-9A71B71725AD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1"/>
          <a:stretch/>
        </p:blipFill>
        <p:spPr>
          <a:xfrm>
            <a:off x="1547640" y="3219480"/>
            <a:ext cx="626436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entury Gothic"/>
              </a:rPr>
              <a:t>Korting toegestaan aan Pensionariss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B45D-5C92-4135-BAFE-B717DC309D43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Content Placeholder 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7770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176480"/>
            <a:ext cx="246240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Thank</a:t>
            </a: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 You</a:t>
            </a: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Baie Danki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entury Gothic"/>
              </a:rPr>
              <a:t>enKos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84" name="Object 2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4CB9-C5EF-4F0C-9D87-C5BEC6A6AE11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s was gemaak met die opstel van die begrot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beraamde VPI deur Nasionale Tesourie van 4.1% vir die 2021/22 finansiële jaar en 4.4%; 4.5% vir die daaropvolgende twee jar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Salaris aanpassing vir 2021/22 is gebasseer op TASK skale plus 4.0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erhoging in koste van grootmaat elektrisiteit aankope is 17.8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oorsiening vir oninbare skulde beloop 6.8% van alle dienste en belasting heffing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5F4B-53A9-4E7A-8F89-BBF55A87FF0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773360"/>
            <a:ext cx="822960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Alhoewel die verwagte inflasie koers soos geprojekteer deur Nasionale Tesourie 4.1% gaan beloop vir 2021/22 sal die bedryfs uitgawes met ‘n hoër persentasie styg weens die groei in inset kos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0FAA-A3E5-4377-835F-6A62C81FB471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`n Kapitaal Begroting van R 23,465 miljoen word voorgestel vir 2021/22 (R 27,245miljoen &amp;  R22,523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kapitaalbegroting word as volg gefinansier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E674-6CA6-4CC3-9254-4B0DA41DE44F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7859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is `n opsomming van die groter kapitaal projekte wat onderneem sal word gedurende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AEB5-B735-498C-9BCC-4BD729A4E33F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463680" y="2692440"/>
            <a:ext cx="8140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41000"/>
            <a:ext cx="82296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verwagte inkomste vir die 2021/22 finansiële jaar beloop R 357,070 miljoen (R 383,084 miljoen en             R 381,453 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hoof inkomste bronne i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FC5D-5990-4FAD-A0FC-6CA6A8577FA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81471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Ander eie inkomste behels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9AB1-C50B-4893-8D12-E32EF847B19E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684360" y="2543040"/>
            <a:ext cx="7416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geprojekteerde bedryfsuitgawe vir die 2021/22 finansiële jaar beloop R 354,392 miljoen (R 375,528 miljoen en R 375,528 miljoen vir die daaropvolgende twee jare). Die hoof uitgawe items is as vol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41CC-7EC0-4B18-8EC8-0E35C89585AB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" descr=""/>
          <p:cNvPicPr/>
          <p:nvPr/>
        </p:nvPicPr>
        <p:blipFill>
          <a:blip r:embed="rId1"/>
          <a:stretch/>
        </p:blipFill>
        <p:spPr>
          <a:xfrm>
            <a:off x="457200" y="3219480"/>
            <a:ext cx="822960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6:53:20Z</dcterms:created>
  <dc:creator>user29</dc:creator>
  <dc:description/>
  <dc:language>en-US</dc:language>
  <cp:lastModifiedBy>HP</cp:lastModifiedBy>
  <cp:lastPrinted>2021-05-04T10:44:47Z</cp:lastPrinted>
  <dcterms:modified xsi:type="dcterms:W3CDTF">2021-05-18T10:26:48Z</dcterms:modified>
  <cp:revision>232</cp:revision>
  <dc:subject/>
  <dc:title>BEAUFORT WEST MUNICIPALITY</dc:title>
</cp:coreProperties>
</file>